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9047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6840" y="3872880"/>
            <a:ext cx="8226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24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8200" y="152352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9560" y="152352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6840" y="387288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8200" y="387288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9560" y="387288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0080" y="-36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24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872880"/>
            <a:ext cx="8226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3872880"/>
            <a:ext cx="8226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24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8200" y="152352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9560" y="152352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387288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8200" y="387288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9560" y="3872880"/>
            <a:ext cx="26485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60080" y="-36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2440" y="387288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23520"/>
            <a:ext cx="4014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872880"/>
            <a:ext cx="8226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2560" cy="6857640"/>
            <a:chOff x="1440" y="0"/>
            <a:chExt cx="9142560" cy="6857640"/>
          </a:xfrm>
        </p:grpSpPr>
        <p:sp>
          <p:nvSpPr>
            <p:cNvPr id="1" name=""/>
            <p:cNvSpPr/>
            <p:nvPr/>
          </p:nvSpPr>
          <p:spPr>
            <a:xfrm>
              <a:off x="1440" y="0"/>
              <a:ext cx="9140760" cy="129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solidFill>
              <a:srgbClr val="607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440" y="0"/>
              <a:ext cx="9142560" cy="6857640"/>
              <a:chOff x="1440" y="0"/>
              <a:chExt cx="9142560" cy="6857640"/>
            </a:xfrm>
          </p:grpSpPr>
          <p:sp>
            <p:nvSpPr>
              <p:cNvPr id="3" name=""/>
              <p:cNvSpPr/>
              <p:nvPr/>
            </p:nvSpPr>
            <p:spPr>
              <a:xfrm>
                <a:off x="2880" y="1650960"/>
                <a:ext cx="914112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440" y="63327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440" y="581976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440" y="534204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440" y="49309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440" y="45403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40" y="419904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440" y="3864240"/>
                <a:ext cx="9140760" cy="5688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440" y="358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40" y="33181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44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44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0" y="2822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44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44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440" y="203220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40" y="18687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44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440" y="29556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40" y="754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44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44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440" y="115416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44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440" y="1497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1440" y="0"/>
                <a:ext cx="9140760" cy="1658880"/>
                <a:chOff x="144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412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1132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408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852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180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508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708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44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700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102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744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216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360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7080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552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1440" y="885960"/>
                <a:ext cx="9140760" cy="772920"/>
                <a:chOff x="144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44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996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20480" y="1649520"/>
                <a:ext cx="8255160" cy="5208120"/>
                <a:chOff x="420480" y="1649520"/>
                <a:chExt cx="8255160" cy="52081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4120" y="1649520"/>
                  <a:ext cx="66960" cy="520812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21080" y="1649520"/>
                  <a:ext cx="636480" cy="520812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30360" y="1649520"/>
                  <a:ext cx="1074600" cy="520812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2120" y="1649520"/>
                  <a:ext cx="1636560" cy="520812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20480" y="1649520"/>
                  <a:ext cx="2094120" cy="520812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7000" y="1649520"/>
                  <a:ext cx="638280" cy="520812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10240" y="1649520"/>
                  <a:ext cx="1074600" cy="520812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8880" y="1649520"/>
                  <a:ext cx="1644480" cy="520812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8920" y="1649520"/>
                  <a:ext cx="2106720" cy="520812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440" y="1649520"/>
                <a:ext cx="1990800" cy="41799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40" y="1649520"/>
                <a:ext cx="1504800" cy="26622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4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4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5040" y="1649520"/>
                <a:ext cx="2027160" cy="42656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3680" y="1649520"/>
                <a:ext cx="1568520" cy="274788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8760" y="1649520"/>
                <a:ext cx="1063440" cy="158292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2840" y="1649520"/>
                <a:ext cx="549360" cy="77328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6110280"/>
            <a:ext cx="17082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5480" y="6124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9EF9-6118-4CD8-AF8A-59058632B5D7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440" y="1440"/>
            <a:ext cx="9142560" cy="6856560"/>
            <a:chOff x="1440" y="144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1440" y="1440"/>
              <a:ext cx="9140760" cy="137160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solidFill>
              <a:srgbClr val="607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440" y="1440"/>
              <a:ext cx="9142560" cy="6856560"/>
              <a:chOff x="1440" y="144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2880" y="165240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40" y="633240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0" y="58197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534168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493056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453996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419868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40" y="386388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40" y="358776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40" y="3319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40" y="30621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440" y="26128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40" y="282384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40" y="241452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0" y="221436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40" y="20332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40" y="1869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40" y="3960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29664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75564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536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9540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115560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133668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14983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1440" y="1440"/>
                <a:ext cx="9140760" cy="1658880"/>
                <a:chOff x="1440" y="144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4120" y="144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11320" y="144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4080" y="144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8520" y="144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1800" y="144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5080" y="144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080" y="144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440" y="17280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7000" y="144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10240" y="144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7440" y="144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2160" y="144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3600" y="144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70800" y="144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5520" y="7776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440" y="887400"/>
                <a:ext cx="9140760" cy="772920"/>
                <a:chOff x="1440" y="88740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440" y="98244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9960" y="88740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20480" y="1650960"/>
                <a:ext cx="8255160" cy="5207040"/>
                <a:chOff x="420480" y="165096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4120" y="165096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21080" y="165096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30360" y="165096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2120" y="165096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0480" y="165096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7000" y="165096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10240" y="165096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8880" y="165096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8920" y="165096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7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1440" y="165096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40" y="165096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40" y="165096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40" y="165096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5040" y="165096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3680" y="165096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8760" y="165096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2840" y="165096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07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94171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8120" y="609480"/>
            <a:ext cx="6019560" cy="1001880"/>
          </a:xfrm>
          <a:prstGeom prst="parallelogram">
            <a:avLst>
              <a:gd name="adj" fmla="val 71654"/>
            </a:avLst>
          </a:prstGeom>
          <a:solidFill>
            <a:srgbClr val="7b9eaf"/>
          </a:solidFill>
          <a:ln w="9360">
            <a:solidFill>
              <a:srgbClr val="698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7621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rrections Careworker Curricul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Edi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1447920"/>
            <a:ext cx="7920000" cy="4419360"/>
          </a:xfrm>
          <a:prstGeom prst="rect">
            <a:avLst/>
          </a:prstGeom>
          <a:solidFill>
            <a:srgbClr val="607aaa">
              <a:alpha val="47000"/>
            </a:srgbClr>
          </a:solidFill>
          <a:ln w="76320">
            <a:solidFill>
              <a:srgbClr val="6985a1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94171"/>
                </a:solidFill>
                <a:latin typeface="Arial"/>
              </a:rPr>
              <a:t>Searches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2941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824360" y="4957920"/>
            <a:ext cx="411480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0" t="0" r="1576" b="0"/>
          <a:stretch/>
        </p:blipFill>
        <p:spPr>
          <a:xfrm>
            <a:off x="2467080" y="0"/>
            <a:ext cx="64148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3505320" cy="3200400"/>
          </a:xfrm>
          <a:prstGeom prst="rect">
            <a:avLst/>
          </a:prstGeom>
          <a:solidFill>
            <a:srgbClr val="7b9eaf"/>
          </a:solidFill>
          <a:ln w="76320">
            <a:solidFill>
              <a:srgbClr val="294171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Hand-Held Metal Detector Front Scan</a:t>
            </a:r>
            <a:endParaRPr b="1" lang="en-US" sz="4000" spc="-1" strike="noStrike">
              <a:solidFill>
                <a:srgbClr val="2941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>
            <a:lum contrast="6000"/>
          </a:blip>
          <a:srcRect l="0" t="0" r="1564" b="0"/>
          <a:stretch/>
        </p:blipFill>
        <p:spPr>
          <a:xfrm>
            <a:off x="2378160" y="0"/>
            <a:ext cx="67658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3962520" cy="2362320"/>
          </a:xfrm>
          <a:prstGeom prst="rect">
            <a:avLst/>
          </a:prstGeom>
          <a:solidFill>
            <a:srgbClr val="7b9eaf"/>
          </a:solidFill>
          <a:ln w="76320">
            <a:solidFill>
              <a:srgbClr val="294171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Front View Pat Search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395440" y="0"/>
            <a:ext cx="6634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505320"/>
            <a:ext cx="3886200" cy="2209680"/>
          </a:xfrm>
          <a:prstGeom prst="rect">
            <a:avLst/>
          </a:prstGeom>
          <a:solidFill>
            <a:srgbClr val="7b9eaf"/>
          </a:solidFill>
          <a:ln w="76320">
            <a:solidFill>
              <a:srgbClr val="294171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Rear View Pat Search</a:t>
            </a:r>
            <a:endParaRPr b="1" lang="en-US" sz="4000" spc="-1" strike="noStrike">
              <a:solidFill>
                <a:srgbClr val="2941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Contraband Chain-of-Custody</a:t>
            </a:r>
            <a:endParaRPr b="1" lang="en-US" sz="40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9776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fiscate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ag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ag/Document 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ecure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llowing the training, participants will be able to: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9417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e contraban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9417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duct personal searches including pat down searches and using walkthrough and hand-held metal detector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9417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ain the purpose and process for conducting strip search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9417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duct room and area search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9417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the legal issues and process for conducting searches of mail and other communica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9417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proper handling of property taken from residents, including the chain-of-custody and documentation procedures for securing contraband.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When to Search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uring intake of residents and their possession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Before and after residents leave facility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uring daily room inspections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s residents leave workshop, kitchen area, visitation room, etc.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hen there are visual or other indications that a youth is holding contraband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hen adult visitors and staff need screening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o recover lost or stolen property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hen policy requires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Who and What to Search?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esident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Visitors (family, vendors, religious instructors, staff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Vehicles entering the property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utside perimeter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ail and packages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urses, briefcases, toolboxes, etc.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ll areas accessible to residents (sleeping rooms, indoor and outside recreation areas, classrooms, kitchens, conference rooms, closets, laundry, etc.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Introduction of Contraband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Youth at intake 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Visitor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taff 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ncoming mail and package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ncealed in vehicles or supplied delivered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rom work, recreation &amp; school assignment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ufactured within the facility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Vendors &amp; contractor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What is Contraband?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ything against the law for the general public 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tems which could cause death or serious physical injury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tems that could be used to hide detection or to attempt an escape 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ything that is prohibited by facility rules.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00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171"/>
                </a:solidFill>
                <a:latin typeface="Arial"/>
              </a:rPr>
              <a:t>Search Continuum</a:t>
            </a:r>
            <a:endParaRPr b="1" lang="en-US" sz="4400" spc="-1" strike="noStrike">
              <a:solidFill>
                <a:srgbClr val="29417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80880" y="1371240"/>
            <a:ext cx="6096240" cy="4419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6372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ble Inspec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3046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-Down/ Fr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2284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 Searc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129276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Cavity &amp; MRI/Radiological Examina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4799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k-Through Metal Detec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8847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-Held Metal Detec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557760" cy="6858000"/>
          </a:xfrm>
          <a:prstGeom prst="rect">
            <a:avLst/>
          </a:prstGeom>
          <a:ln w="76320">
            <a:solidFill>
              <a:srgbClr val="294171"/>
            </a:solidFill>
            <a:miter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3962160" cy="3124440"/>
          </a:xfrm>
          <a:prstGeom prst="rect">
            <a:avLst/>
          </a:prstGeom>
          <a:solidFill>
            <a:srgbClr val="7b9eaf"/>
          </a:solidFill>
          <a:ln w="76320">
            <a:solidFill>
              <a:srgbClr val="294171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Hand-Held Metal Detector: Outer Perimeter </a:t>
            </a:r>
            <a:br>
              <a:rPr sz="4000"/>
            </a:b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Scan</a:t>
            </a:r>
            <a:endParaRPr b="1" lang="en-US" sz="4000" spc="-1" strike="noStrike">
              <a:solidFill>
                <a:srgbClr val="2941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85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47064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4114800" cy="2819520"/>
          </a:xfrm>
          <a:prstGeom prst="rect">
            <a:avLst/>
          </a:prstGeom>
          <a:solidFill>
            <a:srgbClr val="7b9eaf"/>
          </a:solidFill>
          <a:ln w="76320">
            <a:solidFill>
              <a:srgbClr val="294171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Hand-Held Metal Detector: </a:t>
            </a:r>
            <a:br>
              <a:rPr sz="4000"/>
            </a:br>
            <a:r>
              <a:rPr b="1" lang="en-US" sz="4000" spc="-1" strike="noStrike">
                <a:solidFill>
                  <a:srgbClr val="294171"/>
                </a:solidFill>
                <a:latin typeface="Arial"/>
              </a:rPr>
              <a:t>Rear Scan</a:t>
            </a:r>
            <a:endParaRPr b="1" lang="en-US" sz="4000" spc="-1" strike="noStrike">
              <a:solidFill>
                <a:srgbClr val="2941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17:20:38Z</dcterms:created>
  <dc:creator>winslowc</dc:creator>
  <dc:description/>
  <dc:language>en-US</dc:language>
  <cp:lastModifiedBy>winslowc</cp:lastModifiedBy>
  <dcterms:modified xsi:type="dcterms:W3CDTF">2004-12-07T16:57:40Z</dcterms:modified>
  <cp:revision>19</cp:revision>
  <dc:subject/>
  <dc:title>Cover</dc:title>
</cp:coreProperties>
</file>